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6F3E-5AE3-4663-8B7F-31612130D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C993-5E11-4BAC-9A02-B72D2690FAE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F3A8-6350-4009-B361-5B7F9F6370D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ofesorii sunt mai mult decât instructori— ei sunt facilitatori ai procesului de învăţare, implementatori, evaluatori şi proiectanţi ai lecţiilor predate în cadrul unităţii de învăţ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EFC-02EB-4327-8784-35116D651A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CD Resur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Realizare scurtatura pe desktop (+varianta din My Comput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CD Resurse şi prezentare mod de navigare butoane şi meni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HelpGuide (din pag principala a CD resurse sau din fold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meniu şi a modului de navig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 aplicaţie intru în Essential Course şi le arăt cum să urmărească paşii pentru realizarea structurii de directo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8A0-9BDB-4CFB-BB08-C815F35C1B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e recomandă listarea structurii complete de la pag 1.07 şi a listei de verificare a portofoliulu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1.08)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pentru a lucra în mod eficient în continu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492C-7FE8-4F3B-90C1-68EBDE7A77C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pentru completarea cerinţelor. Modulul 1, Activitatea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358-9945-424B-A667-51CE5D32F83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2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412C-416E-4047-B98B-0DB28471C92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3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F8F9-5EE2-4A95-BB2F-322B8E165D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entru a avea succes, Unităţile de învăţare trebuie proiectate cu scopul final în minte şi trebuie organizate în jurul unor concepte importa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FEE-AB1A-408C-ACA7-E14062D8C5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lanificarea unităţii de învăţare nu este liniară; ea include întotdeauna întoarcerea la pasul anterior aşa cum este indicat în gra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: răspunsul la întrebări şi completarea tabelulu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F14C-AE49-4C39-ADD9-FC5AA9E595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7EBB-4A71-4477-BDE9-934BAACA75F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iectele care oferă mai multe oportunităţi de învăţare pot fi semnificativ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iferite în ceea ce priveşte aria tematică sau scopul şi pot fi aplicate la clase diferite şi la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 multe niveluri de studiu. Proiectele angajează elevii în roluri active, cum ar fi rol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elui c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zolvă problem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a decizi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vestigh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ocumentează; 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13EA-46D7-47F5-9302-8EEF179661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FD2-A462-4BF8-B1AB-5187DB629A1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591A-96C1-4C09-9BEB-89C927905D3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işă de lucru în director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a 4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B1D3-F3F6-4ACD-A93E-320709636F5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site Int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9BEF-7639-426C-9405-E2A36E86D64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C9A3-4170-4F75-9084-5468502647F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5 min = Planificare în avans – Pas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5376-E85A-412D-8C8D-036DF3B08F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G hidare la intrarea pe blog si la completarea acestuia. http://isc4lugojna.blogspot.com   </a:t>
            </a:r>
            <a:r>
              <a:rPr b="1" lang="ro-RO" sz="1200" spc="-1" strike="noStrike" u="sng">
                <a:solidFill>
                  <a:srgbClr val="000000"/>
                </a:solidFill>
                <a:uFillTx/>
                <a:latin typeface="Verdana"/>
              </a:rPr>
              <a:t>http://ISCBihor1NA.21classes.c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o-RO" sz="1200" spc="-1" strike="noStrike" u="sng">
                <a:solidFill>
                  <a:srgbClr val="000000"/>
                </a:solidFill>
                <a:uFillTx/>
                <a:latin typeface="Verdana"/>
              </a:rPr>
              <a:t>http://ISCBihor2NA.21classes.com</a:t>
            </a:r>
            <a:r>
              <a:rPr b="1" lang="ro-RO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http://isc3timisoarana.blogspot.co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http://isc4lugojna.blogspot.co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D096-28E2-4191-B6D2-10BD3094DA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– completare pasul 2 şi 3 (pasul 1 este completat dej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4385-E498-409C-8AE5-E1B2B4B7B34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B525-81DB-4516-A1DB-163EF01E17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CB01-07C7-414B-9DA2-954EF124642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63B-8BCB-4A2F-97CE-04B35CC6C0E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7811-A783-4E84-8763-159A1AF5093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709B-8345-440C-9EC8-FAE6195C13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69B-8DF1-4DAC-A999-86D41C7FF0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0EFC-BCFD-4267-BB14-ACBB991D2C2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a abilităţilor necesare în secolul XXI – 1.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stă de abilităţi ale secolului XXI este prezentată în detaliu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</a:t>
            </a:r>
            <a:r>
              <a:rPr b="0" i="1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ctivitatea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D6DD-C67A-4457-BB07-18E560E3BF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in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plicaţii ale elevilor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 înţeleg toate tipurile de materiale (publicaţii , prezentări, wiki sau blog) realizate de către profesori din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pectiva elevilor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0042-E0DF-4F8B-894F-2F5E0989C32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3FEA-8295-4023-83F0-AB11BF2544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abe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ul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este disponibil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A1D2-2A0B-4C7A-A3F0-48A79B5AB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629B-9E05-4811-B3FB-40F702AD3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C969-D602-44F0-A0C5-0EF0D951E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CDF0-66E3-4FDD-A974-D88078329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02C9-457A-491A-AC79-501E5900F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50E0-9886-444E-AA01-D306A402C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A29C-2290-4C90-BA38-2E3FE5896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CCF2-F5C9-46E0-ADA3-C6F55C710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1E9B-DFA5-403B-805C-9F8FE2577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2860-7A17-4BF8-AC00-03FCDCE24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C846-58F7-43D1-A5EE-CB6E939E5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5577-C53F-4059-880C-8993C21BF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412-238B-4118-81AD-668C086B9DC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metoda%20proiectului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ct%203%20Analizarea%20proiectelor/Lista%20verificare%20proiecte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3680" y="4809960"/>
            <a:ext cx="895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struirea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 în societatea cunoaşter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A69-B964-4D00-A0C9-A501E6D0150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4760" y="819000"/>
            <a:ext cx="846936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Noile roluri ale profesor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fesorii sunt mai mult decât instructori –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i sunt facilitatori ai procesului de învăţare, implementatori, evaluatori şi proiectanţi ai lecţiilor din unitatea de învăţ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Deciziile pe care ei le iau în procesul instruirii au un impact major asupra educaţiei elev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cadrul acestui curs ve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 şi dezvolta resurse pentru unitatea de învăţ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pe care o preda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nitatea poate varia, ca durată, între câteva săptămâni şi mai multe luni, dar trebuie să facă referire la un domeniu cheie din programa şcola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ofoliul dumneavoastră este dezvoltat pe parcursul celor opt module ale curs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F05-B548-4FD0-ADFE-80FE48308C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142920" y="647640"/>
            <a:ext cx="47340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4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area directorului Portofol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tilizarea Intel® Ghid de asistenţ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această resursă digitală veţi găsi instrucţiuni pas cu pas cu privire la modul de finalizare al abilităţilor tehnic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teţi utiliza Intel® Ghid de asistenţă pentru a afla în mod rapid cum se realizează anumite operaţiuni pe calculator în momentul în care acestea trebuie efectuat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el® Ghid de asistenţă reprezintă o resursă valoroasă disponibilă atât pe parcursul participării la acest curs cât şi în viit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19" descr="GM__2346"/>
          <p:cNvPicPr/>
          <p:nvPr/>
        </p:nvPicPr>
        <p:blipFill>
          <a:blip r:embed="rId1"/>
          <a:stretch/>
        </p:blipFill>
        <p:spPr>
          <a:xfrm>
            <a:off x="4905360" y="0"/>
            <a:ext cx="4238640" cy="5996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694-9594-4459-B740-DEFD6129DC8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988560"/>
            <a:ext cx="80913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lizarea directorului Portofoliu 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(1.0</a:t>
            </a:r>
            <a:r>
              <a:rPr b="0" lang="ro-RO" sz="12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directorul Portofoliu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upă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ructura alăturată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ff5c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sulta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ista de verificare a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ortofoliulu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1.08)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Modulul 1, Activitatea 1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st curs veţi crea toate elemente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nţion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este elemente formează împreună un Portofoliu pentru o unitate de învăţare completă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crând în grupuri sau echipe, veţi revizui produsele pe care le creaţi împreună cu coechipierii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172120" y="257040"/>
            <a:ext cx="3971880" cy="43434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2"/>
          <a:stretch/>
        </p:blipFill>
        <p:spPr>
          <a:xfrm>
            <a:off x="4375080" y="271152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F46A-F5E6-41A9-AD27-7DB66356EA8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3" descr="GM__2346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85840" y="704880"/>
            <a:ext cx="4371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1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5: Vizualizarea Şablonului Planului Unităţii de învăţare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0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reaţi o scurtătură pentru documentul „Start” dacă nu aţi făcut-o dej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rniţi CD-ul cu resurse curricular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alvaţ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 şablonul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Planului Unităţii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directorul </a:t>
            </a: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Plan_unit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n portofoliul dumneavoastr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formatul planului de unitate de învăţare, revizuiţi rapid diversele secţiuni şi notaţi descrierile în câmpurile a căror completare vă este solicitat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(1.10 – 1.12) CD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Modulul 1, Activitatea 1 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, Activitatea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AC8-9CCC-4E69-991D-4E21B4E5B55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508640" y="1039680"/>
            <a:ext cx="45640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 preda bine şi a implica elevii în procesul de învăţare, necesită o planificare şi o proiectare atentă a unităţii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(1.13 – 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operirea în profunzime a conţinut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i importante referitoare la organizarea înţelege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aluare continu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rcini de lucru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F187-6858-4256-9FAA-72A012F1F01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535200" y="0"/>
            <a:ext cx="5537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 - Învăţarea prin </a:t>
            </a:r>
            <a:r>
              <a:rPr b="0" lang="ro-RO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proiec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zvoltă cunoştinţe, abilităţi şi atitudini prin sarcini de lucru extins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movează investigaţia, demonstraţii autentice ale produselor învăţării şi performanţelor elevilor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Face legătura dintre obiectivele operaţionale şi gândirea de nivel superior a elevilor cu contexte de viaţă reală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nclude strategii instrucţionale variate care îi implică pe elevi indiferent de stilul lor de învăţa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Deseori, elevii colaborează cu experţi din exterior sau cu membri ai comunităţi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ilizează tehnologia pentru a sprijini învăţarea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ilizează diferite metode de evaluare pentru a asigura calitatea în procesul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    </a:t>
            </a:r>
            <a:r>
              <a:rPr b="1" lang="ro-RO" sz="1400" spc="-1" strike="noStrike">
                <a:solidFill>
                  <a:srgbClr val="ff5c00"/>
                </a:solidFill>
                <a:latin typeface="Verdana"/>
              </a:rPr>
              <a:t>Vizualizaţi beneficiile prezentate la pag. 1.1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3" descr="GM__2186"/>
          <p:cNvPicPr/>
          <p:nvPr/>
        </p:nvPicPr>
        <p:blipFill>
          <a:blip r:embed="rId2"/>
          <a:srcRect l="0" t="0" r="11580" b="0"/>
          <a:stretch/>
        </p:blipFill>
        <p:spPr>
          <a:xfrm>
            <a:off x="0" y="406440"/>
            <a:ext cx="351468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80" y="0"/>
            <a:ext cx="3708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33C4-FC1A-45D9-B5CA-CCFC0529BE5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809640"/>
            <a:ext cx="862020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Analiza planificării Unităţii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(1.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15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Pentru a avea succes, Unităţile de învăţare trebuie proiectate cu scopul final bine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conturat şi trebuie organizate în jurul unor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 parcursul acestui curs veţi realiza un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ortofoliu de Unitate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in 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tabilirea obiectivelor operaţiona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rnind de la competenţele specifice/obiectivele de referinţă şi abilităţile necesare în secolului XX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2. Dezvoltarea de întrebări generatoare a proiectelor inter-pluri-transdisciplin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ntru a-i ajuta pe elevi să se axeze pe teme şi concepte importante care vizează conexiunile între discipline şi cu viaţa real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3. Planificarea evaluării -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entrarea pe procesul de învăţare al elevilor prin evaluări continu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4. Activităţi de proiectare -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clud nevoile de învăţare ale elevilor, să facă legătura cu lumea exterioară şi să includă activităţi care implică utilizarea tehnologiei.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1.1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332F-783E-4D68-8750-C3C194DCD48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743200" y="177840"/>
            <a:ext cx="6365880" cy="5640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" y="863640"/>
            <a:ext cx="38498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–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50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Examinarea unui proi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50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de instruire bu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93760" y="2838600"/>
            <a:ext cx="50562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Planificarea unităţii de învăţare nu este liniară; ea include întotdeauna întoarcerea la pasul anterior aşa cum este indicat în grafi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paşii despre care cunoaşteţi cel mai mul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domeniile despre care trebuie să aflaţi mai multe 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Completaţi tabelul de la pag.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1.16 -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1.1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295200" y="2112840"/>
            <a:ext cx="24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0000"/>
                </a:solidFill>
                <a:latin typeface="Verdana"/>
              </a:rPr>
              <a:t>CD Modulul 1, Activitatea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397D-0BBA-47F3-8462-BA8FA0BD94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695840" y="1039680"/>
            <a:ext cx="43768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3: Revizuirea cerinţelor de întocmire a Portofoliului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fat: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ezentaţi criteriile de evaluare înainte ca elevii să înceapă proiectul pentru ca ei să înţeleagă care sunt cerinţele dascălului cu privire la realizarea acestuia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cerinţele de realizare a Portofoliului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Grila. 1.18) </a:t>
            </a:r>
            <a:r>
              <a:rPr b="0" lang="ro-RO" sz="1200" spc="-1" strike="noStrike">
                <a:solidFill>
                  <a:srgbClr val="ff0000"/>
                </a:solidFill>
                <a:latin typeface="Verdana"/>
              </a:rPr>
              <a:t>Modul 1, Activitatea 2C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idenţiaţi sau subliniaţi zonele din grila de cerinţe care se referă la obiectivele pe care le-aţi identificat la pasul 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4EB2-0E3D-41BE-9F9A-3EFA5044C7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2375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720" y="266760"/>
            <a:ext cx="9016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0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iectele angajează elevii în roluri activ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rezolvă problem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a deciz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nvestigh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se document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Listă de verificare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 a caracteristicilor proiectului  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(CD Modulul 1, Activitatea 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levii se află în centrul procesului de instrui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biectivele operaţionale aliniate competenţelor specifice respectiv obiectivelor de referinţ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roiectul este generat de întrebări esenţiale, de unitate şi de conţinu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roiectul implică metode de evaluare multiple şi continu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roiectul implică sarcini de lucru şi activităţi conectate, care se desfăşoară într-o anumită perioadă de timp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roiectul are conexiuni cu lumea real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levii îşi demonstrează cunoştinţele şi abilităţile prin intermediul produselor care sunt publicate, prezentate sau afiş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Tehnologia sprijină şi îmbunătăţeşte procesul de învăţare al elevil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bilităţile de gândire de nivel superior sunt incluse în activitatea de proiec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trategiile de instruire variate sprijină diverse stiluri de învăţa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D22B-4B93-43EC-94A6-8271116FA66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5" descr="IM0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5387760"/>
            <a:ext cx="79376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odul 1 –Predarea prin proiecte</a:t>
            </a:r>
            <a:br>
              <a:rPr sz="1300"/>
            </a:br>
            <a:r>
              <a:rPr b="0" lang="en-US" sz="13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1" lang="en-US" sz="13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F041-E423-4F4D-8ADA-A346EEB882C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0"/>
            <a:ext cx="82375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2520" y="255600"/>
            <a:ext cx="8566200" cy="32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cont.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algn="just">
              <a:spcBef>
                <a:spcPts val="1199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Nu toate unităţile de învăţare trebuie să includă un proiect, însă în momentul în care învăţarea pe bază de proiect este adecvată, integrarea unui proiect poate stimula semnificativ învăţarea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xista diferite niveluri ale modelării unităţilor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bazate pe proiect de la început până la sfârş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clud un proiect ca şi experienţă culminantă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clud un proiect într-un anumit segment al unităţ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82520" y="3375000"/>
            <a:ext cx="874224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Vizualizarea Portofoliilor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Vezi CD–Modul 1–Activitatea 4–Link Intel Educationa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portofoliile situate în directorul Portofolii de pe CD-ul de resurse sau vizualizaţi exemplele de pe site-ul web Intel® Education.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http://educate.intel.com/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  <a:ea typeface="Arial"/>
              </a:rPr>
              <a:t>en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/ProjectDesign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21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aţi în considerare modul în care acestea abordează diversele elemente din lista de verificare a caracteristicilor proiectulu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ce mod au fost incorporate proiectele în unităţile de învăţa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aţi putea utiliza ideile de proiect pentru a îmbunătăţi predarea unităţii 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văţare selec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278B-E0A2-444F-9ADD-A0FFD20A5E5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960" y="80316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oiectaţi publicaţia pentru a prezenta conceptul de proiect unui public cum ar fi elevii dumneavoastră, părinţii acestora sau alţi membri ai comunităţii şcolare posibil interesaţ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modul în care utilizaţi în prezent metoda proiectului în instruire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oiectaţi-vă publicaţia astfel încât să răspundă întrebărilor pe care consideraţi că vi le vor adresa elevii sau părinţii acestora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Fişă de lucru 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 CD 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ezentarea publicaţiei la începutul unităţii de învăţare poate ajuta la stabilirea aşteptărilor şi la pregătirea elevilor pentru activităţile ulterio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69120" y="400356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9120" y="400356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E46-01D3-430B-A8D7-93CCE7FB831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licaţi asupr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Arial"/>
              </a:rPr>
              <a:t>en</a:t>
            </a: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2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i a 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Project-Based Learning Resource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 CD 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Resurse online pentru învatarea bazata pe proiecte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u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„Resurse educaţionale pe bază de proiec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Resurse – Resurse Internet de pe CD-ul cu resurse curricul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Vizualizarea exemplelor de publicaţii 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(1.25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exemplele de publicaţii de pe CD-ul cu resurse pentru idei cu privire la design-ul şi conţinutul propriei publicaţii (buletin informativ, ziar, broşură sau afiş) -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FCD-7076-4CC1-97EC-17C83B4E7A7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5: Crearea publicaţiei propri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Cum încep elabor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șabloanele (template-urile) din CD resurse (Modulul 1 – Activitatea 5) sau de pe site pentru a alege varianta cea mai potrivită proiectului dumneavoast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cât mai des publicaţia în folder-ul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o-RO" sz="1800" spc="-1" strike="noStrike">
                <a:solidFill>
                  <a:srgbClr val="ff0000"/>
                </a:solidFill>
                <a:latin typeface="Verdana"/>
              </a:rPr>
              <a:t>Asistenţă_unit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directorul Portofoli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-3: Adăugarea elementelor de bază şi suplimentare la publicaţia prop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(1.27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Intel® Ghid de asistenţă pentru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7030a0"/>
                </a:solidFill>
                <a:latin typeface="Verdana"/>
              </a:rPr>
              <a:t>realizarea</a:t>
            </a: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7030a0"/>
                </a:solidFill>
                <a:latin typeface="Verdana"/>
              </a:rPr>
              <a:t>ș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odificarea publicaţie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627-ED04-42B9-9811-82B30122452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7520" y="614520"/>
            <a:ext cx="8362800" cy="8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9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0440" y="1565280"/>
            <a:ext cx="8678880" cy="440208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98360" y="1630440"/>
            <a:ext cx="8651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Modul 1 Elemente chei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rcetarea asupra învăţării şi predării indică importanţ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Acoperirii materiei de studiu în profunz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Ideilor de bază pentru organizarea procesului de înţeleg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Evaluării contin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Sarcinilor semnificative,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roiectele se axează pe scenarii care oferă numeroase oportunităţi de studiu. Acestea implică elevii în investigaţii de rezolvare a problemelor şi a altor sarcini importante. Proiectele realizează legătura cu viaţa de fiecare zi şi abordează probleme rea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aşii pentru realizarea proiectelor includ următoarele acţiuni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1. Stabilirea obiectivelor operaţion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2. Dezvoltarea Întrebărilor care generează proiecte inter-pluri-transdsiplin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. Realizarea unui plan de evalu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4. Proiectarea activităţ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823-2565-40E7-A0CD-5E8220C4F96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506840" y="371520"/>
            <a:ext cx="463716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asul 2: Introducerea opiniilor în Blog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(1.29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n acest modul în blog-ul persona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ntraţi p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http://isc3timisoarana.blogspot.co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dăugaţi la site-uri favorite adres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flectaţi asupra modului în care acest modul v-a ajutat să vă creaţi şi să vă planificaţi Unitatea de învăţar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proiectele să-i ajute pe elevii mei să atingă competenţele specifice şi obiectivele de referinţă şi să îşi dezvolte abilităţi le necesare în secolul XXI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utiliza proiectele pentru a îmbunătăţi procesul de învăţ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2571-8D4F-47CC-904D-3B833620710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3000" y="673200"/>
            <a:ext cx="852156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flecţii asupra Planului Unităţii de învăţare şi asupra aspectului proiectului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1.31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ăspundeţi la întrebările de la paginile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1.31 şi 1.3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MODUL 1, PLANIFICARE ÎN AVANS Inceperea  procesului de planificare C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Vizarea abilităţilor de nivel superior şi cele necesare în secolul XXI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3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ntificaţi abilităţile de nivel superior şi cele necesare în secolul XXI aplicabile proiectului dumneavoastră răspunzând la întrebările de mai jo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introduce aceste abilităţi în unitatea mea de învăţare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b ce formă acestea vor “lua viaţă” în clas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Pasul 3: Localizarea resurselor materi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Colectaţi materiale </a:t>
            </a:r>
            <a:r>
              <a:rPr b="0" i="1" lang="ro-RO" sz="1600" spc="-1" strike="noStrike">
                <a:solidFill>
                  <a:srgbClr val="ff0000"/>
                </a:solidFill>
                <a:latin typeface="Verdana"/>
              </a:rPr>
              <a:t>(cum ar fi manuale, materiale de sprijin, aşteptările de la nivelul clasei, lista cu competenţe specifice-obiective de referinţă, exemple de aplicaţii ale elevilor etc.)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care vă vor ajuta să dezvoltaţi planul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E4BE-DAAD-4051-8D6D-03DEA064BD6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Ce urmează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5960" y="950760"/>
          <a:ext cx="8528040" cy="4530960"/>
        </p:xfrm>
        <a:graphic>
          <a:graphicData uri="http://schemas.openxmlformats.org/drawingml/2006/table">
            <a:tbl>
              <a:tblPr/>
              <a:tblGrid>
                <a:gridCol w="2803680"/>
                <a:gridCol w="5724360"/>
              </a:tblGrid>
              <a:tr h="57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A829-9A45-4D64-BD1A-93856850354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3238560" y="2762280"/>
            <a:ext cx="5562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omputers are not magi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eachers ar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2007-03-05LogoSIVECO15aniCertif_Ro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5240" y="3211200"/>
            <a:ext cx="8237520" cy="14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  </a:t>
            </a: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Vă mulţumesc pentru participare, </a:t>
            </a:r>
            <a:br>
              <a:rPr sz="2800"/>
            </a:b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	</a:t>
            </a: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colaborare şi răbdare!</a:t>
            </a:r>
            <a:br>
              <a:rPr sz="28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aster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eacher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Norin Ardelean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48EA-12A3-4F89-B7C0-DA01D607321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2840" y="739800"/>
          <a:ext cx="8470800" cy="271296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</a:t>
                      </a:r>
                      <a:r>
                        <a:rPr b="0" lang="ro-RO" sz="1600" spc="-1" strike="noStrike" u="sng">
                          <a:solidFill>
                            <a:srgbClr val="f5e647"/>
                          </a:solidFill>
                          <a:uFillTx/>
                          <a:latin typeface="Verdana"/>
                          <a:ea typeface="Times New Roman"/>
                          <a:hlinkClick r:id="rId1" action="ppaction://hlinksldjump"/>
                        </a:rPr>
                        <a:t>abilităţilor necesare în secolul XXI</a:t>
                      </a:r>
                      <a:r>
                        <a:rPr b="0" lang="ro-RO" sz="1600" spc="-1" strike="noStrike" u="sng">
                          <a:solidFill>
                            <a:srgbClr val="f5e647"/>
                          </a:solidFill>
                          <a:uFillTx/>
                          <a:latin typeface="Verdana"/>
                          <a:ea typeface="Times New Roman"/>
                          <a:hlinkClick r:id="rId2" action="ppaction://hlinksldjump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3476160"/>
            <a:ext cx="8510400" cy="2597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tehnologia în modul cel mai eficient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t să-i ajut pe elevi să atingă competenţele specifice/obiectivel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eferinţă şi să îşi dezvolte abilităţile necesare în secolul XXI prin meto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iect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se pot utiliza proiectele pentru a îmbunătăţi procesul de învăţare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438F-46A6-4A2A-9A2A-0EA1DFB30E3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i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abilităţi necesare în secolul XX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9160" y="390240"/>
            <a:ext cx="87105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Responsabilitate şi capacitate de adaptare -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xersarea responsabilităţii personale şi a flexibilităţii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oc de muncă şi comunitate; stabilirea şi atingerea unor standarde şi ţeluri ridica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Competenţe de comunicare -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nţelegerea şi realizarea unei comunicări eficiente verbale, scrise şi multimedia, într-o varietate de forme şi contex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Creativitate şi curiozitate intelectual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- 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Dezvoltarea, implementarea şi comunicarea ideilor noi altor persoane; deschidere şi receptivitate la nou, perspective vari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Gândire critică şi gândire sistemic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Exersarea gândirii în ce priveşte înţelegerea şi realizarea unor alegeri complexe; înţelegerea conexiunilor dintre sistem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Abilităţi de informare şi educare media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nalizarea, accesarea, administrarea, integrarea, evaluarea, şi crearea de informaţii în diverse forme şi medii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Capacităţi de colaborare şi interpersonale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Demonstrarea capacităţilor de lucru în echipă şi de conducere; adaptarea la diverse roluri şi responsabilităţi; colaborarea productivă cu ceilalţi; conduită empatică; respectarea altor puncte de vede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dentificarea, formularea şi soluţionarea problemelor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capacitatea de a depista, formula, analiza şi rezolva problem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auto-formare)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Monitorizarea propriilor nevoi de înţelegere şi învăţare; localizarea resurselor corespunzătoare; transferul cunoştinţelor dintr-un domeniu în altu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Responsabilitate socială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Acţionarea în mod responsabil, ţinând cont de interesele comunităţii; demonstrarea unui comportament etic în contexte legate de propria persoană, loc de muncă şi comunitate.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8325000" y="5734080"/>
            <a:ext cx="466560" cy="218880"/>
          </a:xfrm>
          <a:custGeom>
            <a:avLst/>
            <a:gdLst>
              <a:gd name="textAreaLeft" fmla="*/ 14040 w 466560"/>
              <a:gd name="textAreaRight" fmla="*/ 452520 w 466560"/>
              <a:gd name="textAreaTop" fmla="*/ 14040 h 218880"/>
              <a:gd name="textAreaBottom" fmla="*/ 204840 h 218880"/>
            </a:gdLst>
            <a:ahLst/>
            <a:rect l="textAreaLeft" t="textAreaTop" r="textAreaRight" b="textAreaBottom"/>
            <a:pathLst>
              <a:path w="46002" h="21600">
                <a:moveTo>
                  <a:pt x="0" y="0"/>
                </a:moveTo>
                <a:lnTo>
                  <a:pt x="46002" y="0"/>
                </a:lnTo>
                <a:lnTo>
                  <a:pt x="46002" y="21600"/>
                </a:lnTo>
                <a:lnTo>
                  <a:pt x="0" y="21600"/>
                </a:lnTo>
                <a:close/>
              </a:path>
              <a:path fill="lightenLess" w="46002" h="21600">
                <a:moveTo>
                  <a:pt x="0" y="0"/>
                </a:moveTo>
                <a:lnTo>
                  <a:pt x="46002" y="0"/>
                </a:lnTo>
                <a:lnTo>
                  <a:pt x="44602" y="1400"/>
                </a:lnTo>
                <a:lnTo>
                  <a:pt x="1400" y="1400"/>
                </a:lnTo>
                <a:close/>
              </a:path>
              <a:path fill="darken" w="46002" h="21600">
                <a:moveTo>
                  <a:pt x="46002" y="0"/>
                </a:moveTo>
                <a:lnTo>
                  <a:pt x="46002" y="21600"/>
                </a:lnTo>
                <a:lnTo>
                  <a:pt x="44602" y="20200"/>
                </a:lnTo>
                <a:lnTo>
                  <a:pt x="44602" y="1400"/>
                </a:lnTo>
                <a:close/>
              </a:path>
              <a:path fill="darkenLess" w="46002" h="21600">
                <a:moveTo>
                  <a:pt x="46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2" y="20200"/>
                </a:lnTo>
                <a:close/>
              </a:path>
              <a:path fill="lighten" w="46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2" h="21600">
                <a:moveTo>
                  <a:pt x="15995" y="10800"/>
                </a:moveTo>
                <a:lnTo>
                  <a:pt x="30007" y="3794"/>
                </a:lnTo>
                <a:lnTo>
                  <a:pt x="30007" y="17806"/>
                </a:lnTo>
                <a:close/>
              </a:path>
            </a:pathLst>
          </a:cu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A1FB-81B9-4BC4-98BF-306330DF11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 P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ă facem cunoştinţ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oducerea trainer-ului şi a participanţilor. În prezentare trebuie inclu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ume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 de învăţământ, clas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asele, precum şi disciplina de pred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aşteptările de la acest cu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404-6778-4F08-BA2C-8E019917AB5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688680"/>
            <a:ext cx="846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1 - Primii paş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ezentarea cursului Intel</a:t>
            </a:r>
            <a:r>
              <a:rPr b="1" lang="ro-RO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Teach – Predarea în societatea cunoaşteri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cursului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ă ajute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adrele didactice să utilizeze tehnologiile IT în stimularea imaginaţiei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şi să le faciliteze transferul învăţării pentru viaţa de fiecare z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in intermediul cursului ve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oper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alităţi eficiente de a utiliza calculatoarele pentru îmbunătăţirea procesul de predare -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 Întrebarea esenţială a cursului se poate formula astfe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um poate fi utilizată tehnologia în modul cel mai eficient pentru a sprijini şi a evalua achiziţiile elevi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nostru în ceea ce vă priveşte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1.02)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D Activitatea 1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ste ca dumneavoastră să vă dezvoltaţi competenţa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de a crea un portofoliu pentru o unitate de învățare pe care apoi să îl utilizaţi la clas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a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id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ivelul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de performanţă al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1E01-6C71-4847-930A-E69FB52FB25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4440" y="660240"/>
          <a:ext cx="8701200" cy="2621160"/>
        </p:xfrm>
        <a:graphic>
          <a:graphicData uri="http://schemas.openxmlformats.org/drawingml/2006/table">
            <a:tbl>
              <a:tblPr/>
              <a:tblGrid>
                <a:gridCol w="2803680"/>
                <a:gridCol w="5897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16000" y="3321000"/>
          <a:ext cx="8746920" cy="2621160"/>
        </p:xfrm>
        <a:graphic>
          <a:graphicData uri="http://schemas.openxmlformats.org/drawingml/2006/table">
            <a:tbl>
              <a:tblPr/>
              <a:tblGrid>
                <a:gridCol w="2874960"/>
                <a:gridCol w="58719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34DA-E102-4B51-8AD0-D586FE60CF0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4440" y="546120"/>
          <a:ext cx="8701200" cy="29876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3: Realizarea conexiu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Internetului ca mijloc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 a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wiki pentru a facilita schimbul de idei şi cooperare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legii drepturilor de autor şi utilizarea corectă a inform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ui document care să cuprindă lucrările ci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grarea resurselor de pe Internet în unitatea de învăţare pentru a sprijini documentarea, comunicarea, colaborarea, rezolvarea problemelor şi/sau alte abilităţi necesare în secolul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unei resurse de colaborare on-line în scopul de a discuta despre unităţile de învăţ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6000" y="3535200"/>
          <a:ext cx="8746920" cy="25606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licaţiei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TI pentru realiz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or aplicaţii din perspectiv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lev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rategiilor pentru utilizarea sigură, responsabilă şi corespunzătoare a Internetului de cătr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or aplicaţii ale elevilor (publicaţii ale elevilor, a unei prezentări, wiki sau blog pentru a demonstra procesul de învăţare al elevil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iectarea procedurilor de instruire pentru unitatea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</a:t>
                      </a:r>
                      <a:r>
                        <a:rPr b="0" i="1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ei elevului</a:t>
                      </a: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7AED-3044-44A9-B1D8-18C6C30DA4A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4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4440" y="546120"/>
          <a:ext cx="8701200" cy="31957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Evaluarea proiectelor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evalu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ative şi sum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ţinerea de feed-back pentru a îmbunătăţi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e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căilor de implicare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practicilor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zumatul evaluării pentru unitatea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ei evaluări sumative a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or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exemplelor produse din perspectiva elevilor în baza evaluării sum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16000" y="3773520"/>
          <a:ext cx="8746920" cy="23050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5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6: Planificare pentru diferenţierea instrui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a elevilor în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cesul auto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pentru instruire diferenţiat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evaluări care sa încurajeze auto-formarea elevulu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pentru sprijinirea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 pentru a include un spaţiu de acomodare şi manifestare pentru toţi elevi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747D-5DE8-4AED-A2FF-84582A595BF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5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4440" y="546120"/>
          <a:ext cx="8701200" cy="30272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re pentru integrarea tehnolog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calităţii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acilitator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fesor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de interogare pentru formarea abilităţilor de gândire de nivel super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abilităţii de facilitator într-un proces de instruire centrat p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necesare pentru facilitarea procesulu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portofoliului unităţii de învăţare şi apoi revizuirea acestu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în blog-ul persona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calizarea resurselor de pe Internet pentru profes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16000" y="3598920"/>
          <a:ext cx="8746920" cy="23889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8: Prezentarea portofoli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chimb de exprienţă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 privire la propri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tarea modului în care se face managementul tehnologiei în instruirea elevilo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documentelor de managem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gătirea pentru prezen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erirea şi primirea de feed-back cu privire la portofol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rea cursului Intel®Teach – Predarea în societatea cunoaşter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user</cp:lastModifiedBy>
  <cp:lastPrinted>2006-11-14T00:45:04Z</cp:lastPrinted>
  <dcterms:modified xsi:type="dcterms:W3CDTF">2011-03-10T09:40:25Z</dcterms:modified>
  <cp:revision>229</cp:revision>
  <dc:subject/>
  <dc:title>Presentation Title Goes Here</dc:title>
</cp:coreProperties>
</file>